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C9EC-D0E4-45C8-92C3-B2EC3A65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C9C9-24AE-45F0-BAD2-22309628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774A-8ECC-4E19-A90F-BDD0CB86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5465-3236-4A64-8937-D47A904B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D9A1-165E-4688-BA30-CA46302A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0C38-4577-4030-A454-612C343E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B1BC-55FB-4DA1-9100-7BF3F351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A9D7-BCEC-4CAA-A134-EA5C59BB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A0B0-C8E8-454C-8E2F-165A7958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C1F1-8361-4DF3-8C0F-805C08F5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A3F5-4FCD-4901-8D2D-D89B4D61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92D9-A58D-403E-A2EC-7F2E6D4B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D399-A0E2-417E-A7FD-0602A4C1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AC00-B406-43DF-BDDE-479E882C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8DEC-3724-45B7-B464-1ED7565A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FC22-8BF0-4123-9439-11C68A9C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3513-B1E1-4492-B87C-36182AB6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FA0C-11E6-4AE7-B57E-9FF409D8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EDF2-BD64-473E-92C5-A55B93A5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3E9A-4B52-46CB-9C3D-3D0E03E1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C860-6C35-4BF3-AF4D-E17FFB9D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6477-71E5-452D-B084-717A63AD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3A5-5373-47BE-9E4D-892DD0D6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A050-D5B6-4D8F-9813-CBDBC47F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088E-5276-43C4-84FE-3172CF40D6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6FF0-FDD7-49A1-92FC-D77012A441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rainpop.com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hyperlink" Target="http://www.brainpop.com/video_tutorials/brainpop_on_an_interactive_whiteboard/" TargetMode="External"/><Relationship Id="rId16" Type="http://schemas.openxmlformats.org/officeDocument/2006/relationships/hyperlink" Target="http://www.brainpop.com/video_tutorials/activotes/index.weml" TargetMode="External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8.jpeg"/><Relationship Id="rId2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https://secure.brainpop.com/help/subscription_options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Comic Sans MS"/>
              </a:rPr>
              <a:t>Technology Initiativ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y: Kristy Hanki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191120" cy="4190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971800" y="6078600"/>
            <a:ext cx="396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ea typeface="Arial"/>
                <a:hlinkClick r:id="rId2"/>
              </a:rPr>
              <a:t>http://www.brainpop.com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91440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Comic Sans MS"/>
              </a:rPr>
              <a:t>Are our students really engaged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can we keep our students engaged and excited about our less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can we increase student achieveme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technology help me get my students excited about learn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410080" y="1143000"/>
            <a:ext cx="2590920" cy="2095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4724280" y="4419720"/>
            <a:ext cx="35053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5562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Comic Sans MS"/>
              </a:rPr>
              <a:t>What is BrainPOP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nimated curriculum based content that supports educators and engages studen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lso available 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BrainPOP Jr. (k-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BrainPOP Espa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ñ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rainPOP Educa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sources Includ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ovie Cli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Quizz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xperi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imeli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ctivity Pa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an be used in many content are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anguage A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a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ocial Stud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Heal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rt/Mus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echnolo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2095560" cy="1981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657600" y="2590920"/>
            <a:ext cx="548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omic Sans MS"/>
                <a:ea typeface="Arial"/>
              </a:rPr>
              <a:t>How can BrainPOP be us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3581280"/>
            <a:ext cx="47242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Introducing a new lesson or top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Illustrating complex subject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Review before a 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Summarize a concept previously tau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Engage Stud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Improve Student Achiev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27939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Comic Sans MS"/>
              </a:rPr>
              <a:t>Teacher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3124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rainPOP Educ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esson Pl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ideo Tuto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l lessons align with state stand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ctivity She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raphic Organiz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fessional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71840" y="837720"/>
            <a:ext cx="2971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teractive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teractive Word W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Quizz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ideo Tuto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lates topics to the real wor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YI Read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a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181480" y="5486400"/>
          <a:ext cx="4635360" cy="1158840"/>
        </p:xfrm>
        <a:graphic>
          <a:graphicData uri="http://schemas.openxmlformats.org/drawingml/2006/table">
            <a:tbl>
              <a:tblPr/>
              <a:tblGrid>
                <a:gridCol w="463536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deo Tutorials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200400" y="3429000"/>
          <a:ext cx="2286000" cy="70020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9900"/>
                          </a:solidFill>
                          <a:latin typeface="Comic Sans MS"/>
                          <a:ea typeface="Arial"/>
                        </a:rPr>
                        <a:t>Parent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952880" y="5638680"/>
          <a:ext cx="4616640" cy="911520"/>
        </p:xfrm>
        <a:graphic>
          <a:graphicData uri="http://schemas.openxmlformats.org/drawingml/2006/table">
            <a:tbl>
              <a:tblPr/>
              <a:tblGrid>
                <a:gridCol w="979560"/>
                <a:gridCol w="36370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15"/>
                        </a:rPr>
                        <a:t>BrainPOP on an Interactive Whiteboar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16"/>
                        </a:rPr>
                        <a:t>Using BrainPOP With Electronic Voting Devic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5486400" y="579132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5486400" y="6172200"/>
            <a:ext cx="237960" cy="237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324480" y="30492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Comic Sans MS"/>
                <a:ea typeface="Arial"/>
              </a:rPr>
              <a:t>Stud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962520"/>
            <a:ext cx="6477120" cy="32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Access to al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Great for reviewing concep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Children who are more excited about lear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24/7 Accou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Family Accou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After-Hours Accou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5"/>
          <a:stretch/>
        </p:blipFill>
        <p:spPr>
          <a:xfrm>
            <a:off x="3505320" y="533520"/>
            <a:ext cx="245736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05280" y="304560"/>
            <a:ext cx="49532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omic Sans MS"/>
              </a:rPr>
              <a:t>How much does it cos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95680" y="-381240"/>
            <a:ext cx="4648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assroom -- $1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dia Lab -- $5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chool -- $9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strict – Prices V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8680" y="2666880"/>
            <a:ext cx="624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omic Sans MS"/>
                <a:ea typeface="Arial"/>
              </a:rPr>
              <a:t>What do I need to do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3429000"/>
            <a:ext cx="8839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ttend monthly meetings for training ses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very other month after faculty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very other month as depart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valuate student test scores to check for improv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lassroom observations/vide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omplete survey at the end of the y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1904760" cy="1425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96080" y="2438280"/>
            <a:ext cx="1447920" cy="2362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209680" y="1905120"/>
            <a:ext cx="6782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1905120"/>
            <a:ext cx="609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ea typeface="Arial"/>
                <a:hlinkClick r:id="rId3"/>
              </a:rPr>
              <a:t>https://secure.brainpop.com/help/subscription_options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9:54:47Z</dcterms:created>
  <dc:creator>KEMERSON</dc:creator>
  <dc:description/>
  <dc:language>en-US</dc:language>
  <cp:lastModifiedBy>Kristy Hankins</cp:lastModifiedBy>
  <dcterms:modified xsi:type="dcterms:W3CDTF">2010-08-19T21:22:16Z</dcterms:modified>
  <cp:revision>6</cp:revision>
  <dc:subject/>
  <dc:title>BrainPOP</dc:title>
</cp:coreProperties>
</file>